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101D-FFD4-4136-99E0-7D7472183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4B1C-B430-405B-8060-B0E7EF27D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01C3-E17F-4C25-9A01-E37F96172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97C6-F6E0-4796-90DF-192AC8169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74274-D7F8-407D-8F45-2D385E96A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A76A2-9E37-4A2B-8CE6-1C178494B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475ED-46D5-4397-9118-5E603A7D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B10A9-FE05-42A8-A00A-285872D89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35189-2DAB-4180-8F7E-3058DCA8E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9837D-8620-453A-8743-BC75A4121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269F1-7E6E-4579-B2FA-E48CEA6E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BDE5-F610-4704-B691-4CFAB0555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3ED51-21DF-486E-BF72-E852BA56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F31B7-3F2C-49A1-829A-8AFF29EC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B5640-6F82-423A-904A-163806254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177AD-B026-41E5-8FCC-EB0D9C385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34532-40BF-48AF-8681-5C4B2A5AF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75E2-BA9D-4E05-A2A9-C1332E888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316F-7350-4137-AFA2-29BAF73EE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81CC-E1F3-4735-B311-3B65EFE3C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7498-B6FB-4AB7-AB6F-3563112CB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FD49-11FE-414F-97F1-DFA9BE1F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6043-2E8F-4715-963C-956C4348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03FE-0C6C-4A88-8B15-A8929EFA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D2CC-AD84-4C31-9941-5D0C085B3A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FAAD3-2F82-444C-82BC-8C2368B23A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9e9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Устный  журнал.</a:t>
            </a:r>
            <a:br>
              <a:rPr sz="40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Кочующие птицы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76212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страница- Кто они кочующие птиц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страница – Классификация кочующих пти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страница – Любители полакомиться рябин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. страница – Кочующие певц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 страниц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гра «Что? Где? Когда?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страница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лассификация кочующих птиц по способу пит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8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Насекомоядные: синицы, поползни, пищухи, король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Зерноядные: чечётки, щеглы, дятл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Любители полакомиться рябиной: снегири, свиристели, дрозды- рябинн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страница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то они – кочующие птиц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8560" indent="-342720">
              <a:spcBef>
                <a:spcPts val="4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иницы, сойки, поползни, пищухи не улетают далеко, а перелетают с  места на место в поисках корм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28560" indent="-342720">
              <a:spcBef>
                <a:spcPts val="4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негири, щеглы, чечётки радуют нас холодной зим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28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страница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Любители полакомиться рябин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9e9ff"/>
              </a:buClr>
              <a:buFont typeface="Wingdings" charset="2"/>
              <a:buChar char=""/>
              <a:tabLst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негир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e9e9ff"/>
              </a:buClr>
              <a:buFont typeface="Wingdings" charset="2"/>
              <a:buChar char=""/>
              <a:tabLst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виристе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buClr>
                <a:srgbClr val="e9e9ff"/>
              </a:buClr>
              <a:buFont typeface="Wingdings" charset="2"/>
              <a:buChar char=""/>
              <a:tabLst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розды – рябинни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362320" y="2895480"/>
            <a:ext cx="2212920" cy="34448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648320" y="3511440"/>
            <a:ext cx="2359080" cy="3346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6094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 страница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Кочующие певцы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Щегл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Чечёт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Снегир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809880" y="3505320"/>
            <a:ext cx="1414440" cy="22287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 страница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гра «Что? Где? Когда?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Какую птицу называют  «птица-цветок»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 Кто самая маленькая птица нашего лес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 Какую птицу назвали за свой писклявый голосок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 Какая птица бегает по стволу дерева вниз головой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. Какая птица делает запасы на зиму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. Как лакомится рябиной снегирь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. Какая птица носит название танц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8. Сколько видов дятлов встречается в нашем лесу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9. Кто такой желн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0. Кто из кочующих птиц является хорошим строителем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1. Как едят рябину свиристели и дрозды- рябинник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2. Кого называют сеятельницей дубов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9-07-07T22:43:52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